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7EA-B585-4BBB-9B2C-D9A4D8DF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82C-FE3B-484C-B2DE-F0C185EE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151-A824-426A-BA7F-CB26AA49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F8A-05A7-437A-BD66-AB0DDC4F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0A1E-5090-4083-95CD-7B6CD7C5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78FC-14A5-46D8-A793-9FA3AFEF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176A-3A96-42D4-9564-4B518924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E09D-63E1-4372-AA92-CAAC8AD6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F391-2428-4D16-A681-C96280AD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E78B-7032-438F-86AB-0936B74D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DA5A-3BDA-4EE1-AE0A-49B6D59C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41C-C8E9-4329-B9F0-629813EA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0D45-36AF-4D30-A84D-2756DD86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F0BE-785F-48D7-9410-7D17FCEB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9E2B-19B6-47EE-9882-DE224EA0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6097-CEE5-42FC-965E-3D4A580C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BE42-962C-4866-B9D6-39622573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4DE72-0719-46ED-BDA5-8A2E8119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73686-C182-4B8F-86DC-4BF1E11C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A5A55-32E2-4D92-B227-B8BCDF36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6AFD-0F62-48CA-8236-698982AB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885CA-9C0B-45E7-894F-04BE293A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1D7-54AA-4ACC-B4B8-F13C28C3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88A9F-91AB-4A7B-953C-615B8BC8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D691-B1C0-4C00-B622-61F36B6A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E9745-3025-4D88-B506-F8E538C7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E929-7F0A-4242-B9F5-6F716979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FC2A8-CE29-43FC-97FC-157BB8E8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F0FDA-CE40-41C2-9A27-197E6D23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E9D4-455D-4F77-BAA1-23366DB3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0A636-B31A-4B74-B20B-5836985F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8D540-6F9E-4EA2-98D6-DE72B10B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E44F9-BFBC-4899-9A18-60FFEFED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97D-B4B1-4B0B-92B3-C27A4087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84E03-23D4-47DF-92CF-8B37ED94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856C8-7B31-4EEB-A1FC-FADE17F7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AEA3B-6522-440E-BB11-558B97F0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E7097-106D-44C0-83E0-C9076FFF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CCCF3-A94B-4DB0-9194-41D71B18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543B4-2150-4D6B-825F-B66E4594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FBCB-808E-4292-AFAE-8C056DE3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A5324-2789-4DEA-91CB-A6D57309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C1939-92F2-40E2-A2B0-96B47790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9F7D2-A05E-4D56-BE92-047C0E99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F85-AED7-4421-A8EB-1E719437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8BAF5-C54D-448B-899D-5CAF0B14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D7454-55EB-4433-901E-2685AF5A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77022-A07B-4EBF-8D59-5373B836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2111E-F57B-4873-972B-429EA286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EBDD8-AFDE-43A5-91D5-5B3D7307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3DCEF-3CCA-4E67-8EC8-ABD228D0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11832-AF38-42E4-A714-4A016A3D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F6282-3E78-41E0-AE43-EF17AC04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7E8D9-139B-4126-BBF2-E011343F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EAE7A-2EE9-4366-A59B-4C90239D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9F4-D2C0-4B62-BCA2-DC4AA23A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89946-B078-4C4A-97A0-DD329B21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628AF-866F-4E22-A541-E7DB73AC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9C890-4390-4FA4-89DF-6422E986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D7772-BD96-4344-AA1C-5AC65B73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C48A5-B521-4E1B-BF65-2D5634E5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AFB7E-58F6-4A21-BBAA-847FB3A5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2D928-FF84-4372-A144-14B9EF88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B07CD-D0DF-4716-B68A-7A8FFCAC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56F7E-102B-4533-8936-1ACF4C72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E2B0C-90A6-4114-BB9D-3997E407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8AF-7057-4235-A997-0082A401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E4508-4805-4D3F-AC91-210D8FF2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13BCC-FDEC-43B9-9A8E-91AA7B13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480D9-856B-431E-A3A8-B482E4A4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6F062-F169-4B27-814A-49917256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72116-E6B6-4E85-873A-125FF368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CE8FE-EF74-4581-B83D-AC6E0E8D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599FF-AAF4-4BE5-B337-F6DC2EEA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21173-1B01-4A9D-ADDF-D1E0567D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30132-4E80-4610-BF9C-B8EE62E3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804FC-98EA-43DE-ADD4-6EF1B7DE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4B2-B142-495B-8EA9-0C7B71B0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87976-709E-4D2A-B7E2-E5E585F6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B7685-6857-460B-92A1-CACF2749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36F0E-21A7-4300-8D66-77F0503E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ACE30-A434-4162-95BB-0A7C4425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60B12-EFD7-44EF-B2B6-F74097F9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C630A-47B0-4C32-A391-EF6C47D8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B96D4-13C1-4B5B-B828-90A87F1A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9F52E-AD10-4658-8CFE-F7BEF01F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3674E-F8FB-44AB-B1D9-EA167AB1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B10DC-1DC5-4DA4-B104-9F61AB09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EC7-0CEF-48E9-8E46-378F5553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55FA0-181E-4C65-A43B-0E24F000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7D548-D3EE-43B3-BBA9-6BB03D34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E2C7B-EE16-409E-B195-5113150D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64924-C999-444A-BD8E-DABBEC11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65ECF-7482-474F-AB1F-4821417B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8F544-E01A-48AA-8A47-7EE514AE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02AF9-BB80-4122-85B1-E6F1BA1E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EB46-B5CD-46D7-9DD2-75E6D42B81C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202F-9569-4471-91A8-5EB32A2A1F0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6A81-CA11-48C6-9C1B-C602208897B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4EBA-EED7-4C55-B065-D21D03F3539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DFCC-602E-41D8-B5FC-190F3E530FA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2661-E2D4-4436-BC9B-A84F3717F94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5FC1-C9CE-43CD-94AB-EF4E846E46E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0E78-3B09-4AA6-9896-A027310F1FA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3193920"/>
            <a:ext cx="8089920" cy="16956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avatare haioaseavatare animate 245 Avatare cu avatare animate"/>
          <p:cNvPicPr/>
          <p:nvPr/>
        </p:nvPicPr>
        <p:blipFill>
          <a:blip r:embed="rId2"/>
          <a:stretch/>
        </p:blipFill>
        <p:spPr>
          <a:xfrm>
            <a:off x="3352680" y="8380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reativit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dire critic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 sistemic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Responsabilitate social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uto-form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nforma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i si abilit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 med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omunic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apacitate de adaptare, de lucru in echip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entru a crea un model de instruire  centrat pe elev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entru a elabora strategii de instruire variate menite s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 implice pe elevi indiferent de stilul lor de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v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entru a utiliza  tehnologia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 sprijinul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v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ţ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r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entru a include diverse metode de evaluare care s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asigure calitatea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v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ţ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rii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rofesorul are rolul de a facilita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rocesul de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v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re prin proiectarea,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mplementarea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 ş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 evaluarea lec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ilor pe care le sus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n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rofesorul ia decizii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 privin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a implement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rii programei la nivelul clasei,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 func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e de necesit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le elevilor.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Profesorul este un designer al instruiri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Elevii trebuie s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fie capabili s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adune informa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ile necesare astfel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c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 s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aib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apacitatea de a lucra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 echip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de a utiliza tehnologia modern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pentru a putea comunica cu exper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 din exterior precum 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 de a formula r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spunsuri explicite la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cerin</a:t>
            </a:r>
            <a:r>
              <a:rPr b="0" lang="ro-RO" sz="27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ele programe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ntele trebuie s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terac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eze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permanen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ţ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u unitatea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ar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icipe 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mod direct la preg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rea continu</a:t>
            </a:r>
            <a:r>
              <a:rPr b="0" lang="ro-RO" sz="28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 elevului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450720" y="8568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user</cp:lastModifiedBy>
  <dcterms:modified xsi:type="dcterms:W3CDTF">2011-01-20T10:57:08Z</dcterms:modified>
  <cp:revision>7</cp:revision>
  <dc:subject/>
  <dc:title>Slide 1</dc:title>
</cp:coreProperties>
</file>